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move the slid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3BA2-21A2-4721-9BFE-4A3DAB23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3857-941B-4B44-98A1-3E3F47B80ED8}" type="slidenum">
              <a:rPr b="0" lang="en-US" sz="1200" spc="-1" strike="noStrike">
                <a:solidFill>
                  <a:srgbClr val="333333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http://www.isleroyalewolf.org/wolfhome/home.html 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5FCB-5449-4CED-ACC0-826585222C6D}" type="slidenum">
              <a:rPr b="0" lang="en-US" sz="1200" spc="-1" strike="noStrike">
                <a:solidFill>
                  <a:srgbClr val="333333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9 miles wide at widest poin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C0C-54F4-4750-8D5D-AF77474B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F7B-1758-4BC1-949F-1FA1FFFA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9D4-1DAD-4D67-AE22-48314E8E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5C9-D173-43C8-AAFF-DADCFF17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49F0-7EC3-40B2-B174-7BFBE3A3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82A5-7F02-4B93-B131-BB56E78A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649D-E4BF-4BF8-A524-67BE6024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773A-1137-47EF-A899-DACE9528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76E0-935A-4062-A8F0-4199A70D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F71C-C1DE-4BA0-A8D3-9B85682F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B03C-2C74-4557-9009-B33CD58A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C4D-5D54-44F4-A1E3-C0A57657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0F35-B944-49E3-9E1A-815FE201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CEE3-D1EF-43F2-B3AB-1609B064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C5E2-7F8A-445F-A4F5-583C8642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6E97-302C-4979-BFEA-1E517BCD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56DE-0BB0-44A1-9A87-39203D76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5EA-3F61-4787-B04B-A8ACEAED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AA3-73A1-499B-92A9-810F04CE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60E-6586-4F4C-868F-F0FA0F30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A94-9053-44EC-A97A-346BC4F1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28B-0A9B-4F4A-A542-5374501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782-EBAA-4F8C-A817-425EC05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3C6-77E4-422F-BE50-B7FB194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" name="Group 8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" name="Group 9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3" name="Freeform 10"/>
                <p:cNvSpPr/>
                <p:nvPr/>
              </p:nvSpPr>
              <p:spPr>
                <a:xfrm>
                  <a:off x="290808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" name="Freeform 11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" name="Group 12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6" name="Freeform 13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" name="Freeform 14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" name="Group 15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9" name="Freeform 16"/>
                <p:cNvSpPr/>
                <p:nvPr/>
              </p:nvSpPr>
              <p:spPr>
                <a:xfrm>
                  <a:off x="1816200" y="6120"/>
                  <a:ext cx="585720" cy="415080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" name="Freeform 17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" name="Freeform 18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" name="Freeform 19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" name="Group 20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" name="Freeform 21"/>
                <p:cNvSpPr/>
                <p:nvPr/>
              </p:nvSpPr>
              <p:spPr>
                <a:xfrm>
                  <a:off x="677880" y="4680"/>
                  <a:ext cx="6397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" name="Freeform 22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" name="Group 23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7" name="Freeform 24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" name="Freeform 25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" name="Freeform 26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" name="Freeform 28"/>
              <p:cNvSpPr/>
              <p:nvPr/>
            </p:nvSpPr>
            <p:spPr>
              <a:xfrm>
                <a:off x="5057640" y="3900240"/>
                <a:ext cx="1552680" cy="527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2" name="Freeform 29"/>
              <p:cNvSpPr/>
              <p:nvPr/>
            </p:nvSpPr>
            <p:spPr>
              <a:xfrm rot="20854800">
                <a:off x="5227560" y="4335120"/>
                <a:ext cx="1120680" cy="1609560"/>
              </a:xfrm>
              <a:prstGeom prst="pie">
                <a:avLst/>
              </a:pr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3" name="Freeform 30"/>
              <p:cNvSpPr/>
              <p:nvPr/>
            </p:nvSpPr>
            <p:spPr>
              <a:xfrm>
                <a:off x="4748040" y="4713120"/>
                <a:ext cx="752760" cy="18478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4" name="Group 31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5" name="Freeform 32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6" name="Freeform 33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" name="Freeform 34"/>
                <p:cNvSpPr/>
                <p:nvPr/>
              </p:nvSpPr>
              <p:spPr>
                <a:xfrm>
                  <a:off x="5020920" y="4680"/>
                  <a:ext cx="1552320" cy="52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8" name="Freeform 35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" name="Freeform 36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0" name="Group 37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31" name="Freeform 38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2" name="Freeform 39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" name="Freeform 40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" name="Freeform 41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5" name="Freeform 42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6" name="Group 43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7" name="Freeform 44"/>
                <p:cNvSpPr/>
                <p:nvPr/>
              </p:nvSpPr>
              <p:spPr>
                <a:xfrm>
                  <a:off x="7419960" y="4680"/>
                  <a:ext cx="585720" cy="4145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8" name="Freeform 45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9" name="Freeform 46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" name="Freeform 47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1" name="Group 48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2" name="Freeform 49"/>
                <p:cNvSpPr/>
                <p:nvPr/>
              </p:nvSpPr>
              <p:spPr>
                <a:xfrm>
                  <a:off x="5553000" y="15480"/>
                  <a:ext cx="660240" cy="6835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" name="Freeform 50"/>
                <p:cNvSpPr/>
                <p:nvPr/>
              </p:nvSpPr>
              <p:spPr>
                <a:xfrm>
                  <a:off x="6040080" y="4680"/>
                  <a:ext cx="297000" cy="6838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4" name="Group 51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45" name="Freeform 52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6" name="Freeform 53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" name="Freeform 54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8" name="Freeform 55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9" name="Freeform 56"/>
              <p:cNvSpPr/>
              <p:nvPr/>
            </p:nvSpPr>
            <p:spPr>
              <a:xfrm>
                <a:off x="8793000" y="915840"/>
                <a:ext cx="343080" cy="579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0" name="Freeform 57"/>
              <p:cNvSpPr/>
              <p:nvPr/>
            </p:nvSpPr>
            <p:spPr>
              <a:xfrm>
                <a:off x="8526240" y="1093680"/>
                <a:ext cx="530280" cy="13003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1" name="Group 58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52" name="Freeform 59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" name="Freeform 60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4" name="Freeform 61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5" name="Group 62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56" name="Freeform 63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" name="Freeform 64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" name="Freeform 65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9" name="Freeform 66"/>
              <p:cNvSpPr/>
              <p:nvPr/>
            </p:nvSpPr>
            <p:spPr>
              <a:xfrm rot="20854800">
                <a:off x="1295280" y="499104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0" name="Freeform 67"/>
              <p:cNvSpPr/>
              <p:nvPr/>
            </p:nvSpPr>
            <p:spPr>
              <a:xfrm>
                <a:off x="955440" y="5325840"/>
                <a:ext cx="56052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1" name="Freeform 68"/>
              <p:cNvSpPr/>
              <p:nvPr/>
            </p:nvSpPr>
            <p:spPr>
              <a:xfrm>
                <a:off x="1141200" y="4684680"/>
                <a:ext cx="1157400" cy="39348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2" name="Freeform 69"/>
              <p:cNvSpPr/>
              <p:nvPr/>
            </p:nvSpPr>
            <p:spPr>
              <a:xfrm>
                <a:off x="-3240" y="5208480"/>
                <a:ext cx="852480" cy="98280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3" name="Freeform 70"/>
              <p:cNvSpPr/>
              <p:nvPr/>
            </p:nvSpPr>
            <p:spPr>
              <a:xfrm>
                <a:off x="-3240" y="4867200"/>
                <a:ext cx="803160" cy="384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4" name="Freeform 71"/>
              <p:cNvSpPr/>
              <p:nvPr/>
            </p:nvSpPr>
            <p:spPr>
              <a:xfrm rot="20854800">
                <a:off x="1284120" y="3960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5" name="Freeform 72"/>
              <p:cNvSpPr/>
              <p:nvPr/>
            </p:nvSpPr>
            <p:spPr>
              <a:xfrm>
                <a:off x="944640" y="374400"/>
                <a:ext cx="56016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6" name="Freeform 73"/>
              <p:cNvSpPr/>
              <p:nvPr/>
            </p:nvSpPr>
            <p:spPr>
              <a:xfrm>
                <a:off x="1055520" y="4680"/>
                <a:ext cx="1397160" cy="120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7" name="Freeform 74"/>
              <p:cNvSpPr/>
              <p:nvPr/>
            </p:nvSpPr>
            <p:spPr>
              <a:xfrm>
                <a:off x="-25560" y="260280"/>
                <a:ext cx="863640" cy="100656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" name="Freeform 75"/>
              <p:cNvSpPr/>
              <p:nvPr/>
            </p:nvSpPr>
            <p:spPr>
              <a:xfrm>
                <a:off x="-3240" y="4680"/>
                <a:ext cx="792000" cy="295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69" name="Group 76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70" name="Freeform 77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" name="Freeform 78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2" name="Freeform 79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3" name="Group 80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74" name="Freeform 81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5" name="Freeform 82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6" name="Freeform 83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7" name="Freeform 84"/>
              <p:cNvSpPr/>
              <p:nvPr/>
            </p:nvSpPr>
            <p:spPr>
              <a:xfrm>
                <a:off x="4755960" y="5686200"/>
                <a:ext cx="1076400" cy="11718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8" name="Freeform 85"/>
              <p:cNvSpPr/>
              <p:nvPr/>
            </p:nvSpPr>
            <p:spPr>
              <a:xfrm rot="20854800">
                <a:off x="6339960" y="5365800"/>
                <a:ext cx="1157400" cy="1662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9" name="Freeform 86"/>
              <p:cNvSpPr/>
              <p:nvPr/>
            </p:nvSpPr>
            <p:spPr>
              <a:xfrm>
                <a:off x="5846760" y="5756040"/>
                <a:ext cx="749160" cy="11527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0" name="Group 87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81" name="Freeform 88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" name="Freeform 89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" name="Freeform 90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" name="Freeform 91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5" name="Freeform 92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6" name="Group 93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87" name="Freeform 94"/>
                <p:cNvSpPr/>
                <p:nvPr/>
              </p:nvSpPr>
              <p:spPr>
                <a:xfrm>
                  <a:off x="23652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8" name="Freeform 95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89" name="Rectangle 96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90" name="Rectangle 97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02A5-ACFF-4DB6-B9C8-F9EF08C62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97"/>
          <p:cNvGrpSpPr/>
          <p:nvPr/>
        </p:nvGrpSpPr>
        <p:grpSpPr>
          <a:xfrm>
            <a:off x="-25560" y="-56880"/>
            <a:ext cx="9163080" cy="7189920"/>
            <a:chOff x="-25560" y="-56880"/>
            <a:chExt cx="9163080" cy="7189920"/>
          </a:xfrm>
        </p:grpSpPr>
        <p:grpSp>
          <p:nvGrpSpPr>
            <p:cNvPr id="133" name="Group 98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34" name="Group 99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35" name="Freeform 100"/>
                <p:cNvSpPr/>
                <p:nvPr/>
              </p:nvSpPr>
              <p:spPr>
                <a:xfrm>
                  <a:off x="290808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" name="Freeform 101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7" name="Group 102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38" name="Freeform 103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" name="Freeform 104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0" name="Group 105"/>
              <p:cNvGrpSpPr/>
              <p:nvPr/>
            </p:nvGrpSpPr>
            <p:grpSpPr>
              <a:xfrm>
                <a:off x="1790640" y="6120"/>
                <a:ext cx="611280" cy="6849720"/>
                <a:chOff x="1790640" y="6120"/>
                <a:chExt cx="611280" cy="6849720"/>
              </a:xfrm>
            </p:grpSpPr>
            <p:sp>
              <p:nvSpPr>
                <p:cNvPr id="141" name="Freeform 106"/>
                <p:cNvSpPr/>
                <p:nvPr/>
              </p:nvSpPr>
              <p:spPr>
                <a:xfrm>
                  <a:off x="1816200" y="6120"/>
                  <a:ext cx="585720" cy="41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2" name="Freeform 107"/>
                <p:cNvSpPr/>
                <p:nvPr/>
              </p:nvSpPr>
              <p:spPr>
                <a:xfrm>
                  <a:off x="1960560" y="3461400"/>
                  <a:ext cx="398520" cy="61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3" name="Freeform 108"/>
                <p:cNvSpPr/>
                <p:nvPr/>
              </p:nvSpPr>
              <p:spPr>
                <a:xfrm>
                  <a:off x="1790640" y="4130640"/>
                  <a:ext cx="600120" cy="272520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4" name="Freeform 109"/>
                <p:cNvSpPr/>
                <p:nvPr/>
              </p:nvSpPr>
              <p:spPr>
                <a:xfrm>
                  <a:off x="1989000" y="4208760"/>
                  <a:ext cx="231840" cy="24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5" name="Group 110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6" name="Freeform 111"/>
                <p:cNvSpPr/>
                <p:nvPr/>
              </p:nvSpPr>
              <p:spPr>
                <a:xfrm>
                  <a:off x="677880" y="4680"/>
                  <a:ext cx="6397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" name="Freeform 112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8" name="Group 113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49" name="Freeform 114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" name="Freeform 115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51" name="Freeform 116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2" name="Freeform 117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3" name="Freeform 118"/>
              <p:cNvSpPr/>
              <p:nvPr/>
            </p:nvSpPr>
            <p:spPr>
              <a:xfrm>
                <a:off x="5057640" y="3900240"/>
                <a:ext cx="1552680" cy="527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4" name="Freeform 119"/>
              <p:cNvSpPr/>
              <p:nvPr/>
            </p:nvSpPr>
            <p:spPr>
              <a:xfrm rot="20854800">
                <a:off x="5227560" y="4335120"/>
                <a:ext cx="1120680" cy="1609560"/>
              </a:xfrm>
              <a:prstGeom prst="pie">
                <a:avLst/>
              </a:pr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5" name="Freeform 120"/>
              <p:cNvSpPr/>
              <p:nvPr/>
            </p:nvSpPr>
            <p:spPr>
              <a:xfrm>
                <a:off x="4748040" y="4713120"/>
                <a:ext cx="752760" cy="18478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6" name="Group 121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57" name="Freeform 122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8" name="Freeform 123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9" name="Freeform 124"/>
                <p:cNvSpPr/>
                <p:nvPr/>
              </p:nvSpPr>
              <p:spPr>
                <a:xfrm>
                  <a:off x="5020920" y="4680"/>
                  <a:ext cx="1552320" cy="52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0" name="Freeform 125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1" name="Freeform 126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2" name="Group 127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63" name="Freeform 128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4" name="Freeform 129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5" name="Freeform 130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6" name="Freeform 131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7" name="Freeform 132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8" name="Group 133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69" name="Freeform 134"/>
                <p:cNvSpPr/>
                <p:nvPr/>
              </p:nvSpPr>
              <p:spPr>
                <a:xfrm>
                  <a:off x="7419960" y="4680"/>
                  <a:ext cx="585720" cy="4145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0" name="Freeform 135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1" name="Freeform 136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2" name="Freeform 137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3" name="Group 138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74" name="Freeform 139"/>
                <p:cNvSpPr/>
                <p:nvPr/>
              </p:nvSpPr>
              <p:spPr>
                <a:xfrm>
                  <a:off x="5553000" y="15480"/>
                  <a:ext cx="660240" cy="6835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5" name="Freeform 140"/>
                <p:cNvSpPr/>
                <p:nvPr/>
              </p:nvSpPr>
              <p:spPr>
                <a:xfrm>
                  <a:off x="6040080" y="4680"/>
                  <a:ext cx="297000" cy="6838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6" name="Group 141"/>
              <p:cNvGrpSpPr/>
              <p:nvPr/>
            </p:nvGrpSpPr>
            <p:grpSpPr>
              <a:xfrm>
                <a:off x="4651560" y="1806480"/>
                <a:ext cx="3004560" cy="2403000"/>
                <a:chOff x="4651560" y="1806480"/>
                <a:chExt cx="3004560" cy="2403000"/>
              </a:xfrm>
            </p:grpSpPr>
            <p:sp>
              <p:nvSpPr>
                <p:cNvPr id="177" name="Freeform 142"/>
                <p:cNvSpPr/>
                <p:nvPr/>
              </p:nvSpPr>
              <p:spPr>
                <a:xfrm flipH="1" rot="21429000">
                  <a:off x="4691880" y="2240640"/>
                  <a:ext cx="115740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8" name="Freeform 143"/>
                <p:cNvSpPr/>
                <p:nvPr/>
              </p:nvSpPr>
              <p:spPr>
                <a:xfrm rot="20854800">
                  <a:off x="6333120" y="1911240"/>
                  <a:ext cx="115740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9" name="Freeform 144"/>
                <p:cNvSpPr/>
                <p:nvPr/>
              </p:nvSpPr>
              <p:spPr>
                <a:xfrm>
                  <a:off x="5838480" y="2301120"/>
                  <a:ext cx="776880" cy="19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80" name="Freeform 145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1" name="Freeform 146"/>
              <p:cNvSpPr/>
              <p:nvPr/>
            </p:nvSpPr>
            <p:spPr>
              <a:xfrm>
                <a:off x="8793000" y="915840"/>
                <a:ext cx="343080" cy="579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2" name="Freeform 147"/>
              <p:cNvSpPr/>
              <p:nvPr/>
            </p:nvSpPr>
            <p:spPr>
              <a:xfrm>
                <a:off x="8526240" y="1093680"/>
                <a:ext cx="530280" cy="13003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83" name="Group 148"/>
              <p:cNvGrpSpPr/>
              <p:nvPr/>
            </p:nvGrpSpPr>
            <p:grpSpPr>
              <a:xfrm>
                <a:off x="6883920" y="4246560"/>
                <a:ext cx="2043360" cy="1635120"/>
                <a:chOff x="6883920" y="4246560"/>
                <a:chExt cx="2043360" cy="1635120"/>
              </a:xfrm>
            </p:grpSpPr>
            <p:sp>
              <p:nvSpPr>
                <p:cNvPr id="184" name="Freeform 149"/>
                <p:cNvSpPr/>
                <p:nvPr/>
              </p:nvSpPr>
              <p:spPr>
                <a:xfrm flipH="1" rot="21429000">
                  <a:off x="6911640" y="4541760"/>
                  <a:ext cx="786960" cy="11307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5" name="Freeform 150"/>
                <p:cNvSpPr/>
                <p:nvPr/>
              </p:nvSpPr>
              <p:spPr>
                <a:xfrm rot="20854800">
                  <a:off x="8028000" y="4317840"/>
                  <a:ext cx="786960" cy="11307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6" name="Freeform 151"/>
                <p:cNvSpPr/>
                <p:nvPr/>
              </p:nvSpPr>
              <p:spPr>
                <a:xfrm>
                  <a:off x="7691040" y="4583160"/>
                  <a:ext cx="528480" cy="12985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87" name="Group 152"/>
              <p:cNvGrpSpPr/>
              <p:nvPr/>
            </p:nvGrpSpPr>
            <p:grpSpPr>
              <a:xfrm>
                <a:off x="2324520" y="5473800"/>
                <a:ext cx="1587240" cy="1269720"/>
                <a:chOff x="2324520" y="5473800"/>
                <a:chExt cx="1587240" cy="1269720"/>
              </a:xfrm>
            </p:grpSpPr>
            <p:sp>
              <p:nvSpPr>
                <p:cNvPr id="188" name="Freeform 153"/>
                <p:cNvSpPr/>
                <p:nvPr/>
              </p:nvSpPr>
              <p:spPr>
                <a:xfrm flipH="1" rot="21429000">
                  <a:off x="2345400" y="570276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9" name="Freeform 154"/>
                <p:cNvSpPr/>
                <p:nvPr/>
              </p:nvSpPr>
              <p:spPr>
                <a:xfrm rot="20854800">
                  <a:off x="3213000" y="552888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90" name="Freeform 155"/>
                <p:cNvSpPr/>
                <p:nvPr/>
              </p:nvSpPr>
              <p:spPr>
                <a:xfrm>
                  <a:off x="2951280" y="573516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1" name="Freeform 156"/>
              <p:cNvSpPr/>
              <p:nvPr/>
            </p:nvSpPr>
            <p:spPr>
              <a:xfrm rot="20854800">
                <a:off x="1295280" y="499104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2" name="Freeform 157"/>
              <p:cNvSpPr/>
              <p:nvPr/>
            </p:nvSpPr>
            <p:spPr>
              <a:xfrm>
                <a:off x="955440" y="5325840"/>
                <a:ext cx="56052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3" name="Freeform 158"/>
              <p:cNvSpPr/>
              <p:nvPr/>
            </p:nvSpPr>
            <p:spPr>
              <a:xfrm>
                <a:off x="1141200" y="4684680"/>
                <a:ext cx="1157400" cy="39348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4" name="Freeform 159"/>
              <p:cNvSpPr/>
              <p:nvPr/>
            </p:nvSpPr>
            <p:spPr>
              <a:xfrm>
                <a:off x="-3240" y="5208480"/>
                <a:ext cx="852480" cy="98280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5" name="Freeform 160"/>
              <p:cNvSpPr/>
              <p:nvPr/>
            </p:nvSpPr>
            <p:spPr>
              <a:xfrm>
                <a:off x="-3240" y="4867200"/>
                <a:ext cx="803160" cy="384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6" name="Freeform 161"/>
              <p:cNvSpPr/>
              <p:nvPr/>
            </p:nvSpPr>
            <p:spPr>
              <a:xfrm rot="20854800">
                <a:off x="1284120" y="3960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7" name="Freeform 162"/>
              <p:cNvSpPr/>
              <p:nvPr/>
            </p:nvSpPr>
            <p:spPr>
              <a:xfrm>
                <a:off x="944640" y="374400"/>
                <a:ext cx="56016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8" name="Freeform 163"/>
              <p:cNvSpPr/>
              <p:nvPr/>
            </p:nvSpPr>
            <p:spPr>
              <a:xfrm>
                <a:off x="1055520" y="4680"/>
                <a:ext cx="1397160" cy="120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9" name="Freeform 164"/>
              <p:cNvSpPr/>
              <p:nvPr/>
            </p:nvSpPr>
            <p:spPr>
              <a:xfrm>
                <a:off x="-25560" y="260280"/>
                <a:ext cx="863640" cy="100656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0" name="Freeform 165"/>
              <p:cNvSpPr/>
              <p:nvPr/>
            </p:nvSpPr>
            <p:spPr>
              <a:xfrm>
                <a:off x="-3240" y="4680"/>
                <a:ext cx="792000" cy="295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01" name="Group 166"/>
              <p:cNvGrpSpPr/>
              <p:nvPr/>
            </p:nvGrpSpPr>
            <p:grpSpPr>
              <a:xfrm>
                <a:off x="2335680" y="3870360"/>
                <a:ext cx="1587240" cy="1269720"/>
                <a:chOff x="2335680" y="3870360"/>
                <a:chExt cx="1587240" cy="1269720"/>
              </a:xfrm>
            </p:grpSpPr>
            <p:sp>
              <p:nvSpPr>
                <p:cNvPr id="202" name="Freeform 167"/>
                <p:cNvSpPr/>
                <p:nvPr/>
              </p:nvSpPr>
              <p:spPr>
                <a:xfrm flipH="1" rot="21429000">
                  <a:off x="2356560" y="409932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3" name="Freeform 168"/>
                <p:cNvSpPr/>
                <p:nvPr/>
              </p:nvSpPr>
              <p:spPr>
                <a:xfrm rot="20854800">
                  <a:off x="3224160" y="392544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4" name="Freeform 169"/>
                <p:cNvSpPr/>
                <p:nvPr/>
              </p:nvSpPr>
              <p:spPr>
                <a:xfrm>
                  <a:off x="2962440" y="413172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05" name="Group 170"/>
              <p:cNvGrpSpPr/>
              <p:nvPr/>
            </p:nvGrpSpPr>
            <p:grpSpPr>
              <a:xfrm>
                <a:off x="2359440" y="93600"/>
                <a:ext cx="1586880" cy="1269720"/>
                <a:chOff x="2359440" y="93600"/>
                <a:chExt cx="1586880" cy="1269720"/>
              </a:xfrm>
            </p:grpSpPr>
            <p:sp>
              <p:nvSpPr>
                <p:cNvPr id="206" name="Freeform 171"/>
                <p:cNvSpPr/>
                <p:nvPr/>
              </p:nvSpPr>
              <p:spPr>
                <a:xfrm flipH="1" rot="21429000">
                  <a:off x="2380320" y="322560"/>
                  <a:ext cx="611280" cy="8784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7" name="Freeform 172"/>
                <p:cNvSpPr/>
                <p:nvPr/>
              </p:nvSpPr>
              <p:spPr>
                <a:xfrm rot="20854800">
                  <a:off x="3247560" y="148680"/>
                  <a:ext cx="611280" cy="8784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8" name="Freeform 173"/>
                <p:cNvSpPr/>
                <p:nvPr/>
              </p:nvSpPr>
              <p:spPr>
                <a:xfrm>
                  <a:off x="2986200" y="35496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209" name="Freeform 174"/>
              <p:cNvSpPr/>
              <p:nvPr/>
            </p:nvSpPr>
            <p:spPr>
              <a:xfrm>
                <a:off x="4755960" y="5686200"/>
                <a:ext cx="1076400" cy="11718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0" name="Freeform 175"/>
              <p:cNvSpPr/>
              <p:nvPr/>
            </p:nvSpPr>
            <p:spPr>
              <a:xfrm rot="20854800">
                <a:off x="6339960" y="5365800"/>
                <a:ext cx="1157400" cy="1662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1" name="Freeform 176"/>
              <p:cNvSpPr/>
              <p:nvPr/>
            </p:nvSpPr>
            <p:spPr>
              <a:xfrm>
                <a:off x="5846760" y="5756040"/>
                <a:ext cx="749160" cy="11527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12" name="Group 177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213" name="Freeform 178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4" name="Freeform 179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5" name="Freeform 180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6" name="Freeform 181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7" name="Freeform 182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18" name="Group 183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219" name="Freeform 184"/>
                <p:cNvSpPr/>
                <p:nvPr/>
              </p:nvSpPr>
              <p:spPr>
                <a:xfrm>
                  <a:off x="23652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20" name="Freeform 185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221" name="Rectangle 186"/>
            <p:cNvSpPr/>
            <p:nvPr/>
          </p:nvSpPr>
          <p:spPr>
            <a:xfrm>
              <a:off x="1174680" y="3430440"/>
              <a:ext cx="7962840" cy="7776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780F-39F8-4004-BF19-FFC6D68E038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sleroyalewolf.org/overview/overview/wolves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Analysis of a </a:t>
            </a:r>
            <a:br>
              <a:rPr sz="4400"/>
            </a:b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Predator-Prey Relationship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32"/>
                </a:solidFill>
                <a:latin typeface="Palatino Linotype"/>
              </a:rPr>
              <a:t>Ecological Study at</a:t>
            </a: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32"/>
                </a:solidFill>
                <a:latin typeface="Palatino Linotype"/>
              </a:rPr>
              <a:t>Isle Royale, Michigan, U.S.</a:t>
            </a: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72" name="Picture 5" descr="transparent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transparent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wolf moose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transparent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auses of Fluctuation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oose population tends to increase in mild winters, early spring green-up, abundant winter forage, low wolf numbers, low tick infestation – wolf is the only predator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35880" indent="-3358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olf population tends to decrease due to disease, starvation, injury - ~90% of wolf diet is moose (few other species available)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Simplicity of the Chain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03" name="Picture 6" descr="Snapshot%202007-08-29%2020-42-41"/>
          <p:cNvPicPr/>
          <p:nvPr/>
        </p:nvPicPr>
        <p:blipFill>
          <a:blip r:embed="rId1"/>
          <a:stretch/>
        </p:blipFill>
        <p:spPr>
          <a:xfrm>
            <a:off x="2133720" y="2895480"/>
            <a:ext cx="4952880" cy="26877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7"/>
          <p:cNvSpPr/>
          <p:nvPr/>
        </p:nvSpPr>
        <p:spPr>
          <a:xfrm>
            <a:off x="228600" y="56386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Palatino Linotype"/>
              </a:rPr>
              <a:t>Isle Royale’s simplified wolf food chain compared to Yellowstone’s more complex wolf food web.</a:t>
            </a:r>
            <a:endParaRPr b="0" lang="en-US" sz="2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04920" y="1600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Palatino Linotype"/>
              </a:rPr>
              <a:t>Isolation of these species from others makes it ideal to study the direct predator-prey relationship</a:t>
            </a:r>
            <a:endParaRPr b="0" lang="en-US" sz="2800" spc="-1" strike="noStrike">
              <a:solidFill>
                <a:srgbClr val="333333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Impact of Global Warming(?)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ve of last six summers hottest in past 50 year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Both moose and wolf populations declining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ncreased temp. </a:t>
            </a:r>
            <a:r>
              <a:rPr b="0" lang="en-US" sz="3200" spc="-1" strike="noStrike">
                <a:solidFill>
                  <a:srgbClr val="425032"/>
                </a:solidFill>
                <a:latin typeface="Times New Roman"/>
                <a:ea typeface="Times New Roman"/>
              </a:rPr>
              <a:t>→ moose rest more, eat less (heavy foraging in summer helps moose survive winters)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ncreasingly warm summers cause increase in tick populations; weaken moose </a:t>
            </a:r>
            <a:r>
              <a:rPr b="0" lang="en-US" sz="3200" spc="-1" strike="noStrike">
                <a:solidFill>
                  <a:srgbClr val="425032"/>
                </a:solidFill>
                <a:latin typeface="Times New Roman"/>
                <a:ea typeface="Times New Roman"/>
              </a:rPr>
              <a:t>→ easy prey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s moose populations decrease, what happens to the wolf population?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57200" y="1537200"/>
            <a:ext cx="808848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Palatino Linotype"/>
              </a:rPr>
              <a:t>Changing Fortunes of Wolf And Moose</a:t>
            </a:r>
            <a:r>
              <a:rPr b="0" lang="en-US" sz="2400" spc="-1" strike="noStrike">
                <a:solidFill>
                  <a:srgbClr val="333333"/>
                </a:solidFill>
                <a:latin typeface="Palatino Linotype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Palatino Linotype"/>
              </a:rPr>
              <a:t>Moose and wolf population fluctuations on Isle Royale depend on factors like weather, disease and possibly genetic problems. Scientists are trying to sort out reasons for the current wolf resurgence.</a:t>
            </a:r>
            <a:r>
              <a:rPr b="0" lang="en-US" sz="1800" spc="-1" strike="noStrike">
                <a:solidFill>
                  <a:srgbClr val="333333"/>
                </a:solidFill>
                <a:latin typeface="Palatino Linotype"/>
              </a:rPr>
              <a:t>          j </a:t>
            </a:r>
            <a:r>
              <a:rPr b="0" lang="en-US" sz="19700" spc="-1" strike="noStrike">
                <a:solidFill>
                  <a:srgbClr val="333333"/>
                </a:solidFill>
                <a:latin typeface="Palatino Linotype"/>
              </a:rPr>
              <a:t> </a:t>
            </a:r>
            <a:r>
              <a:rPr b="0" lang="en-US" sz="1800" spc="-1" strike="noStrike">
                <a:solidFill>
                  <a:srgbClr val="333333"/>
                </a:solidFill>
                <a:latin typeface="Palatino Linotype"/>
              </a:rPr>
              <a:t>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pic>
        <p:nvPicPr>
          <p:cNvPr id="310" name="Picture 6" descr="moosewolf"/>
          <p:cNvPicPr/>
          <p:nvPr/>
        </p:nvPicPr>
        <p:blipFill>
          <a:blip r:embed="rId1"/>
          <a:stretch/>
        </p:blipFill>
        <p:spPr>
          <a:xfrm>
            <a:off x="2438280" y="3505320"/>
            <a:ext cx="45720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Recent Data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66680" y="1600200"/>
          <a:ext cx="7086600" cy="484488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446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5eeda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b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18720">
                      <a:solidFill>
                        <a:srgbClr val="e5eeda"/>
                      </a:solidFill>
                    </a:lnB>
                    <a:solidFill>
                      <a:srgbClr val="8cc6c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5eeda"/>
                          </a:solidFill>
                          <a:latin typeface="Arial"/>
                        </a:rPr>
                        <a:t>Wolf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b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18720">
                      <a:solidFill>
                        <a:srgbClr val="e5eeda"/>
                      </a:solidFill>
                    </a:lnB>
                    <a:solidFill>
                      <a:srgbClr val="8cc6c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5eeda"/>
                          </a:solidFill>
                          <a:latin typeface="Arial"/>
                        </a:rPr>
                        <a:t>Moose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b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18720">
                      <a:solidFill>
                        <a:srgbClr val="e5eeda"/>
                      </a:solidFill>
                    </a:lnB>
                    <a:solidFill>
                      <a:srgbClr val="8cc6ca"/>
                    </a:solidFill>
                  </a:tcPr>
                </a:tc>
              </a:tr>
              <a:tr h="4399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1872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1872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9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1872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</a:tr>
              <a:tr h="4399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85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</a:tr>
              <a:tr h="4399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10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</a:tr>
              <a:tr h="4413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</a:tr>
              <a:tr h="4399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5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8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Michigan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77" name="Picture 6" descr="US Map"/>
          <p:cNvPicPr/>
          <p:nvPr/>
        </p:nvPicPr>
        <p:blipFill>
          <a:blip r:embed="rId1"/>
          <a:stretch/>
        </p:blipFill>
        <p:spPr>
          <a:xfrm>
            <a:off x="1752480" y="1600200"/>
            <a:ext cx="5943600" cy="37638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60948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an you name the Great Lakes?</a:t>
            </a:r>
            <a:endParaRPr b="0" lang="en-US" sz="4400" spc="-1" strike="noStrike">
              <a:solidFill>
                <a:srgbClr val="333333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95480" y="175212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Largest island in Lake Superior</a:t>
            </a:r>
            <a:br>
              <a:rPr sz="3200"/>
            </a:b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45</a:t>
            </a:r>
            <a:r>
              <a:rPr b="0" lang="en-US" sz="3200" spc="-1" strike="noStrike" baseline="30000">
                <a:solidFill>
                  <a:srgbClr val="425032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miles in length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80" name="Picture 6" descr="Michigan Map"/>
          <p:cNvPicPr/>
          <p:nvPr/>
        </p:nvPicPr>
        <p:blipFill>
          <a:blip r:embed="rId1"/>
          <a:stretch/>
        </p:blipFill>
        <p:spPr>
          <a:xfrm>
            <a:off x="228600" y="228600"/>
            <a:ext cx="2479680" cy="2819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Isle Royale National Park Vicinity Map"/>
          <p:cNvPicPr/>
          <p:nvPr/>
        </p:nvPicPr>
        <p:blipFill>
          <a:blip r:embed="rId2"/>
          <a:stretch/>
        </p:blipFill>
        <p:spPr>
          <a:xfrm>
            <a:off x="609480" y="3124080"/>
            <a:ext cx="8001000" cy="35737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3124080" y="609480"/>
            <a:ext cx="5791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Isle Royale</a:t>
            </a:r>
            <a:endParaRPr b="0" lang="en-US" sz="4400" spc="-1" strike="noStrike">
              <a:solidFill>
                <a:srgbClr val="333333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97180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Isle Royale National Park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Established April 3, 194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Designated as Wilderness Area 1976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nternational Biosphere Reserve 198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894 square miles                                         209 square miles above water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85" name="Picture 5" descr="72"/>
          <p:cNvPicPr/>
          <p:nvPr/>
        </p:nvPicPr>
        <p:blipFill>
          <a:blip r:embed="rId1"/>
          <a:stretch/>
        </p:blipFill>
        <p:spPr>
          <a:xfrm>
            <a:off x="4876920" y="1600200"/>
            <a:ext cx="4047840" cy="27716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6"/>
          <p:cNvSpPr/>
          <p:nvPr/>
        </p:nvSpPr>
        <p:spPr>
          <a:xfrm>
            <a:off x="5029200" y="5181480"/>
            <a:ext cx="3962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17 smaller islands part of park</a:t>
            </a:r>
            <a:endParaRPr b="0" lang="en-US" sz="3200" spc="-1" strike="noStrike">
              <a:solidFill>
                <a:srgbClr val="333333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812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Ecology of Isle Royal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Known for its wolf and moose population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elebrating 50 years of study of closed system predator-prey relationship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On average: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Wolf population:  25 wolve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Moose population:  1000 moose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opulation fluctuations (1980 wolf – 50; 1995 moose – 2422)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776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Wolf - Moos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90" name="Picture 8" descr="wolves"/>
          <p:cNvPicPr/>
          <p:nvPr/>
        </p:nvPicPr>
        <p:blipFill>
          <a:blip r:embed="rId1"/>
          <a:stretch/>
        </p:blipFill>
        <p:spPr>
          <a:xfrm>
            <a:off x="4495680" y="3809880"/>
            <a:ext cx="4419720" cy="2884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isle8_F"/>
          <p:cNvPicPr/>
          <p:nvPr/>
        </p:nvPicPr>
        <p:blipFill>
          <a:blip r:embed="rId2"/>
          <a:stretch/>
        </p:blipFill>
        <p:spPr>
          <a:xfrm>
            <a:off x="304920" y="1600200"/>
            <a:ext cx="4419360" cy="26370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4876920" y="1523880"/>
            <a:ext cx="4038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32"/>
                </a:solidFill>
                <a:latin typeface="Palatino Linotype"/>
              </a:rPr>
              <a:t>Moose first arrived ~ 1900 via swimming(?) from Canada</a:t>
            </a:r>
            <a:endParaRPr b="0" lang="en-US" sz="36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228600" y="4495680"/>
            <a:ext cx="4114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32"/>
                </a:solidFill>
                <a:latin typeface="Palatino Linotype"/>
              </a:rPr>
              <a:t>Wolf first arrived in 1950 via ice bridge from Canada</a:t>
            </a:r>
            <a:endParaRPr b="0" lang="en-US" sz="3600" spc="-1" strike="noStrike">
              <a:solidFill>
                <a:srgbClr val="333333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Moos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During summer, moose eat ~30-40 pounds of vegetation each day, increase body weight by 25%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inter feeding is difficult, eat twigs and balsam fir / cedar needles; snow depth makes foraging difficul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Wolf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omplex pack behavior with alpha male and alpha female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89040"/>
                </a:solidFill>
                <a:uFillTx/>
                <a:latin typeface="Palatino Linotype"/>
                <a:hlinkClick r:id="rId1"/>
              </a:rPr>
              <a:t>http://isleroyalewolf.org/overview/overview/wolves.html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Other Wildlife on Isle Royale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ere are not many species living on the Isle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Loons, osprey, beaver, red fox, squirrel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ill not find porcupine, coyote, white-tailed deer, black bear, chipmunk, skunk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1:42:59Z</dcterms:created>
  <dc:creator> </dc:creator>
  <dc:description/>
  <cp:keywords/>
  <dc:language>en-US</dc:language>
  <cp:lastModifiedBy>Teacher</cp:lastModifiedBy>
  <dcterms:modified xsi:type="dcterms:W3CDTF">2009-02-22T19:59:47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11033</vt:lpwstr>
  </property>
</Properties>
</file>